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.jpeg" ContentType="image/jpeg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2EE-D9AB-46C7-B847-DCBBE974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CC0-D4B8-4683-8E45-958253DA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709-76E7-40CF-B577-1C2A28F8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4FF-1385-457E-8AF9-19AE04E2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CCE-7E03-424D-9EC3-AE33CB9B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A5D-98A4-4A72-9AAB-4C1718F3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77D-B90C-401C-962B-63BB35D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9C4-0CAB-4DC1-A22A-738E79E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22D-2822-49F2-8B69-CF1F560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689-B22E-47D0-8597-87C1FFE8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86B-7BEC-4B2B-8D29-E58FC131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EEA-0193-467C-9446-18B58DA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DB9C-4473-455F-9E02-B734F203B28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905120"/>
            <a:ext cx="860112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e Wohnung und wohne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3962520"/>
            <a:ext cx="67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orbereitung Dorota Wicińsk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TA P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 .................................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a 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upełnij zdania, korzystając z prezentacji. Zapisz uzupełnioną kartę pracy na dyskiet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wohne     ............................ 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ere  Wohnung befindet sich im  ...............................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................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 haben : eine   ...................  ,   ein  ............................  ,  ein ..........................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und 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r Küche steh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......................................................................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.........................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einem Zimmer stehen ...............................................................................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........................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 Wohnzimmer stehen  ....................................................................................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 Bad haben wir ...............................................................................................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ADANIE DOM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9810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konaj w znanym Ci programie prezentację dotyczącą Twojego mieszkania lub odpowiedz na pytan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e heißt dein Zim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 steht der Hocker, in der Küche oder im B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 steht die Waschmasch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 befindet sich der Fernsehappar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t du Telefon in deinem Zim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ję lub odpowiedź zapisz na dyskietce w folderze „MIESZKANIE” pod nazwą „PREZENTACJA”.</a:t>
            </a:r>
            <a:r>
              <a:rPr b="0" i="1" lang="pl-PL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ohnst 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uf dem La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n der Kleinstad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er in der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roßstadt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2468520" cy="163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2880000" cy="19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105520" y="4724280"/>
            <a:ext cx="24685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ohnst du vielle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m Einfamilienhau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er im Wohnblo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er im Hochha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533520"/>
            <a:ext cx="2149560" cy="192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1920960" cy="18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324480" y="4191120"/>
            <a:ext cx="21369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findet sich Deine Wohnu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schoss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oder im erst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weit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ritt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vierten Stoc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29034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as Wohnzimm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r 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s Telef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r Ses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r Fernsehappa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s So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1714680" cy="2560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971800"/>
            <a:ext cx="1554120" cy="120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629400" y="2057400"/>
            <a:ext cx="2263680" cy="2400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191120" y="4038480"/>
            <a:ext cx="1611360" cy="1989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4572000"/>
            <a:ext cx="2666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as Kinderzim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r Schreib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r Stu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e La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s R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ü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2057400" cy="172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238880" y="1905120"/>
            <a:ext cx="112104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90920" y="3048120"/>
            <a:ext cx="1668240" cy="1382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006560" cy="176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629400" y="4038480"/>
            <a:ext cx="214956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as Schlaf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m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s B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as K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er Nacht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ie Nachttischla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e Kom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2286000" cy="138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1235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39 0.03584 L -0.56598 -0.01664 E">
                                      <p:cBhvr>
                                        <p:cTn id="227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6763E-006 L -0.38385 0.14682 E">
                                      <p:cBhvr>
                                        <p:cTn id="23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ie</a:t>
            </a: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Kü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e Mikrow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 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 Elektroh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 Kühlsch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 H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2193840" cy="1589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2133720"/>
            <a:ext cx="1692000" cy="164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581280" y="3048120"/>
            <a:ext cx="1908360" cy="188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1131840" cy="2046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467480" y="4648320"/>
            <a:ext cx="12002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500"/>
                            </p:stCondLst>
                            <p:childTnLst>
                              <p:par>
                                <p:cTn id="24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79191E-006 L -0.57291 0.03167 E">
                                      <p:cBhvr>
                                        <p:cTn id="27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as B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Toi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Waschmas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Wa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Waschbe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Badew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1577880" cy="207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1908360" cy="207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38480" y="3809880"/>
            <a:ext cx="134964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477120" y="3352680"/>
            <a:ext cx="197784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952880" y="4572000"/>
            <a:ext cx="20797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9 0.00069 L -0.22621 0.00069 E">
                                      <p:cBhvr>
                                        <p:cTn id="31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20:46:06Z</dcterms:created>
  <dc:creator>KeNnY</dc:creator>
  <dc:description/>
  <dc:language>en-US</dc:language>
  <cp:lastModifiedBy>KeNnY</cp:lastModifiedBy>
  <dcterms:modified xsi:type="dcterms:W3CDTF">2002-11-20T16:13:23Z</dcterms:modified>
  <cp:revision>6</cp:revision>
  <dc:subject/>
  <dc:title>Die Wohnung und wohnen </dc:title>
</cp:coreProperties>
</file>